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E0D-A16D-413F-98E3-D3ED2718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57F-3D04-42DA-B504-7C7545F2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B01-8007-460F-A93B-11900416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4D2-5508-4DA8-A0D5-ACC2DFB7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358-45EC-4278-B1F9-1FD549AC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1A5-21CF-477E-80CC-29C6D88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DA5-F2AD-4153-9BDC-6432844F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88B-F0B7-4C19-97E5-14590334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1EA-190B-4D7B-88D8-DBC86723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A6D-F74D-4671-A329-14AEA88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311-A357-4886-B277-42A2D384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E9F-E125-4892-A57B-B2BA086F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7C91B-0A88-45A9-A392-CFC09A8190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86415-E037-4A1D-920F-831B4BC1C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47760" y="2097000"/>
            <a:ext cx="8504280" cy="15908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"/>
          <p:cNvGrpSpPr/>
          <p:nvPr/>
        </p:nvGrpSpPr>
        <p:grpSpPr>
          <a:xfrm>
            <a:off x="685800" y="762120"/>
            <a:ext cx="1468440" cy="1828800"/>
            <a:chOff x="685800" y="762120"/>
            <a:chExt cx="1468440" cy="1828800"/>
          </a:xfrm>
        </p:grpSpPr>
        <p:pic>
          <p:nvPicPr>
            <p:cNvPr id="43" name="Rectangle 4" descr=""/>
            <p:cNvPicPr/>
            <p:nvPr/>
          </p:nvPicPr>
          <p:blipFill>
            <a:blip r:embed="rId2"/>
            <a:stretch/>
          </p:blipFill>
          <p:spPr>
            <a:xfrm>
              <a:off x="685800" y="762120"/>
              <a:ext cx="1468440" cy="965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4" name="Straight Arrow Connector 7"/>
            <p:cNvCxnSpPr>
              <a:stCxn id="43" idx="2"/>
            </p:cNvCxnSpPr>
            <p:nvPr/>
          </p:nvCxnSpPr>
          <p:spPr>
            <a:xfrm>
              <a:off x="1419840" y="1728000"/>
              <a:ext cx="2520" cy="8632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</p:grpSp>
      <p:grpSp>
        <p:nvGrpSpPr>
          <p:cNvPr id="45" name="Group 14"/>
          <p:cNvGrpSpPr/>
          <p:nvPr/>
        </p:nvGrpSpPr>
        <p:grpSpPr>
          <a:xfrm>
            <a:off x="2819520" y="762120"/>
            <a:ext cx="1392120" cy="1828800"/>
            <a:chOff x="2819520" y="762120"/>
            <a:chExt cx="1392120" cy="1828800"/>
          </a:xfrm>
        </p:grpSpPr>
        <p:pic>
          <p:nvPicPr>
            <p:cNvPr id="46" name="Rectangle 5" descr=""/>
            <p:cNvPicPr/>
            <p:nvPr/>
          </p:nvPicPr>
          <p:blipFill>
            <a:blip r:embed="rId3"/>
            <a:stretch/>
          </p:blipFill>
          <p:spPr>
            <a:xfrm>
              <a:off x="2819520" y="762120"/>
              <a:ext cx="1392120" cy="978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7" name="Straight Arrow Connector 9"/>
            <p:cNvCxnSpPr>
              <a:stCxn id="46" idx="2"/>
            </p:cNvCxnSpPr>
            <p:nvPr/>
          </p:nvCxnSpPr>
          <p:spPr>
            <a:xfrm flipH="1">
              <a:off x="3502800" y="1740240"/>
              <a:ext cx="12960" cy="85104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T =&gt; Evidence =&gt;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7652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targets state what students wil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now . . . (fac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stand . . . (conce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 able to do (skill) (introduced or practic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/appreciate/enjoy/like . . .(dispos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Statements of evidence specify the student behaviors you will  accept as indications that students have met the targets.  That is, </a:t>
                      </a:r>
                      <a:r>
                        <a:rPr b="1" lang="en-US" sz="20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they describe specific behaviors that students will exhibit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(do, say, etc.) that will convince you that your targets are being met.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sessments are the means you will employ to afford students a chance to display the behaviors that you expect as evidence of achievement.  They fall into four basic categories: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Selected Response / 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sonal Communicatio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t’s look at a couple of lesson plans, shall w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2971800" y="1994040"/>
            <a:ext cx="3276720" cy="4254480"/>
            <a:chOff x="2971800" y="1994040"/>
            <a:chExt cx="3276720" cy="4254480"/>
          </a:xfrm>
        </p:grpSpPr>
        <p:pic>
          <p:nvPicPr>
            <p:cNvPr id="52" name="Picture 3" descr=""/>
            <p:cNvPicPr/>
            <p:nvPr/>
          </p:nvPicPr>
          <p:blipFill>
            <a:blip r:embed="rId1"/>
            <a:srcRect l="5887" t="5001" r="5499" b="6842"/>
            <a:stretch/>
          </p:blipFill>
          <p:spPr>
            <a:xfrm>
              <a:off x="2971800" y="1994040"/>
              <a:ext cx="3276720" cy="425448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43000"/>
                </a:srgbClr>
              </a:outerShdw>
            </a:effectLst>
          </p:spPr>
        </p:pic>
        <p:pic>
          <p:nvPicPr>
            <p:cNvPr id="53" name="Picture 4" descr=""/>
            <p:cNvPicPr/>
            <p:nvPr/>
          </p:nvPicPr>
          <p:blipFill>
            <a:blip r:embed="rId2"/>
            <a:stretch/>
          </p:blipFill>
          <p:spPr>
            <a:xfrm>
              <a:off x="3862080" y="3733920"/>
              <a:ext cx="1429920" cy="141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31:32Z</dcterms:created>
  <dc:creator>Seattle University</dc:creator>
  <dc:description/>
  <dc:language>en-US</dc:language>
  <cp:lastModifiedBy>Seattle University</cp:lastModifiedBy>
  <cp:lastPrinted>2010-10-25T14:31:55Z</cp:lastPrinted>
  <dcterms:modified xsi:type="dcterms:W3CDTF">2010-10-25T14:34:33Z</dcterms:modified>
  <cp:revision>12</cp:revision>
  <dc:subject/>
  <dc:title>LT =&gt; Evidence =&gt; Assessment</dc:title>
</cp:coreProperties>
</file>